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3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5953-3473-4C2E-AE5B-F6DBA10E5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1569-8629-40D6-B208-AA1255D67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FCA4-4683-4DC3-BEF5-6279BCB6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F38D-C501-42B1-B50A-0C0224A0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2E736-6851-459C-9B95-B81FD0CA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B0A38-4941-4350-94FC-E9CCF081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4AB74-1DFD-4669-8584-9851829F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BA42B-CAD2-47C8-9B1C-2E376B95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1AD67-7116-4A28-AF0E-A4223334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47693-EFD1-42F0-8477-33393296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E2E7E-3162-49A7-B413-CB63EF3A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B863C-449C-4580-8BEC-767D7992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5D297-14C5-4018-A366-452CBF69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296394-28FA-42E9-9E17-73F4A483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45CA-6654-44BF-97EE-90D7DE0F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6E5FE7-79BF-49A7-9FE0-0ED33496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36135D-0EED-4D06-A0CF-A03962FC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6DA9F5-B1D9-40D8-89AB-418B7245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E71CF1-542A-47CF-8AFD-2EE5DCB8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669D3F-8A3E-40BB-8928-1B128B2F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28F315-76B2-4A55-92F0-770CAC8F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A0E35B-3BF5-4DE9-94EE-CB7E8F28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6D4E6F-B86E-4D8B-B820-B9793C01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11270D-7BD5-4338-A741-D853D990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96E172-54A5-45B8-A205-B70A66C4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2499-7F2F-4E2D-86DE-092D5B44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0A07AD-9295-4802-A3CA-44D3A36E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1FDBB-58D2-45F1-A6D6-6EEFE939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EA03E-8236-48A8-91CF-82DCD1DB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13C5D-2912-4450-8A2B-AA746FFC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DCDFB-8EEA-4D18-943B-F1B76E9A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5C8F4-5BFC-4D5F-91C3-A6CE7993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39783-4810-43A8-8252-CDB575A4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063DF-8C15-4119-B8D2-598956AF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0987D-FF07-4345-ABFE-BD007C92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F4443-C148-468F-8E25-C1DC637E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2CD0-FB14-4B9A-9C1E-FD04F3BB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32266-8627-4915-BFC2-1C5EBF12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6E020-36B2-4870-9995-3BFFAE2C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45A95-321B-4C7C-B48B-829E4C51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B8ED-5F11-4551-B80D-927F8651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AECA-C927-40C0-ACA1-B1D2CDE6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3ECA-F6E8-4F04-A11B-71C40834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B3A8-2063-43E6-91A2-0920458B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7822-9E3B-4355-A05E-2E3D4A02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6612-1533-4DFE-97F9-782087DD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5FA-AC62-4CE2-A462-6AC40C53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B26D-8F87-4942-B501-6E13B0BC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2EC8-4DB6-47DA-B587-827E2533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DF19-55BF-4AA2-94F0-61E3BE53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4EA8-58BE-4088-A8C9-29707479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6F3D-7560-4571-BCC1-7013BDC3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CE5C5-E7AB-43BA-A819-CA45CC74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FB157-9C45-4164-AB7C-0C4E598C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74E69-8879-4116-A09A-09705B58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7F953-87C2-4F3F-AF28-BBFC2942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829F2-6860-4009-958B-276EE120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DF0-E90F-4C6E-B72D-1DC18F51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28E5C-92C3-4C21-A752-C20B4849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DD4BD-B4DD-476C-B672-1B35CCB5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F92C1-9712-4FA2-898F-C4886DD6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64AA5-2311-44EF-A12E-513BF9D5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3B332-3C42-4848-B1F2-23915797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2868D-0242-4FA3-89E0-0B560A13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5F31D-058B-4EE1-A284-5CECF9D3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2D442C-7A49-4587-8F4E-159B0994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A342FD-E3C3-4FAC-A92B-D3EB9D20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E7ABE8-5B5B-47F0-9877-7360AAEC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207-B908-491F-AA7A-87C4A002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0C5446-AB10-467C-9F6F-19B501BD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81731E-AC13-4165-8E58-B2596100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166509-EEEC-4223-A0EB-817331F9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D1A89D-5E33-4A5C-A804-9F6AAE22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4D6B17-BC7D-45EC-8C58-9B48B596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C1BB10-5F29-42D4-B143-E3FBAC1C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662CB3-B776-4D95-BE7B-80A8F494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C23FA8-F1D0-4E9C-8881-52FDFC6D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6C8958-67EB-438B-B1E2-C4FB1183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58B64-A93C-460F-ADC0-230A5CE9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FCD5-4BE4-49C2-A4B0-4080E13A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B5C2EB-53C0-4605-9E7E-AF7C495D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656075-FF83-4696-86E6-8931C301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82F961-6F68-4984-9AFE-39E6216E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56CC63-9373-4136-A278-8BCD30B5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641FE3-A2B6-470D-9789-7E0B100C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20062-92B9-47F1-BB09-A6FB2844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2BF3DD-49FE-4038-9793-BED7EBE3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71C94-8121-4551-B962-F5C105E2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D2878-80CA-49C1-A7C4-8252E3E5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4171C-C296-45A0-B388-17563B20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1B63-D0A4-489A-8FF7-97BC6636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77F836-D14F-42E4-960E-5DD33554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19EC51-1AF4-4B12-9A82-DEC7438A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BA1E1C-52F9-47C3-89C6-D21B5577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C9DC10-AD07-4564-873F-3CAC1F1D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EB1DDA-713D-4A50-9663-B6C2FFA4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21B24C-3538-456F-A2BB-401AA151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DAE918-8369-477E-8ED4-1CD6CBC7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AD59A6-BF1C-4D0D-B2B9-F3343C67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77899D-5D89-457E-98F1-95DB79AF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8E0D7-624F-45D8-B598-2CE9A37A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F3C-AD9F-4EEB-B976-9C3D970C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DE081-93E9-4187-9B74-F5323AEF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E43C2-5F22-4F24-A093-491BD67E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FA650D-3243-45CA-AA43-74842097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3744C-F79E-4FC2-9F03-ED31DFDA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A6A0F-A6E5-473B-821F-0BD8F5B6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BD0E1-8B49-4BD4-A8BC-5CEE7533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296ED-573C-4B36-B774-2654C747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A7C42-3B2C-46A1-A4A7-5394D2D6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3CEC5-49CC-4BC7-9991-0B79932B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64D18-9A5E-48C9-979D-FF6B31F0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8E3-C799-4B94-B18D-5C5235BF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837B5-FBA7-4544-A65A-04175E3E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54131-29BC-42DD-BEE3-4A1F0618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364E9-B78E-4816-B1E6-D615E5B3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63EBC-667B-47C5-8166-CB3BBCBC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60CAB-29CB-450A-888C-75176003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D7F78-4D7A-4B2B-8BE2-F536820A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5780C-C6FE-40AE-A3E8-DCBA8E56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C34CF-E098-4F98-AAD4-1367EFB3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D9074-3996-4332-9C46-79621891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4BCA4-0664-4807-8F24-6B8038A9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1B1-3048-43C7-BD36-0FB7E9A6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62C2A-D119-420D-8900-EAED6EE0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C46F1-D0A6-4180-BCF6-FAB954D6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73B2F-6EF0-4C45-A558-E1F14542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25AB0-C0E6-4E59-B70D-18109C24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86F8D-D519-4C8B-990B-47186F3B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5863C-AC60-4B12-B722-B2F36C51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2B96A-DB46-48BE-AC64-9F92C027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4A7FB-CCE1-4DD7-AF98-E244EF79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01844-B99F-4DFC-98D2-AE48E331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A543F-A119-47DB-B9ED-16A4F978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22D2-1C37-426D-BEFD-E0468546DA8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13A42894-2C1C-4B87-86BD-15363BEE60CC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:1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959E-4774-4ED1-98E9-C040786429C7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CABE-0875-4910-B81D-8FA8DCAC16B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7FBEB40A-6660-4ED4-A7E7-71CCC2A21D3A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:1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BBC6-BDC1-4D6E-BE25-FA9567DA8751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5AB6-0E2D-49FA-AB90-10E77FDF49B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10DFB55C-126F-4716-A5D9-75BD7A084FDF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:1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10DC-ACA9-42AB-89A4-59E88FA13027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0C4C-A1CF-4C93-880D-26DF9912B435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23A46F62-16EC-4F4F-BC57-3B4EDF9C7B4B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:17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D3BF-BA1D-4635-A7DB-00A8F28A08B5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E603-94FC-46D6-8961-2D812B0AF2F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56A3B7D8-93F8-40E0-8699-8DD811096FB7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:1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ACEF-5110-40F0-9168-5F017DFD8B3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1A12-6AC5-44BA-BE9F-8E601011A53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E687372A-1A1D-4DA5-9A3F-7268D20CB612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:1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6B1A-4CDD-4E7C-9F66-6F4725E2D0C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B0B7-BF76-4549-8EAF-6E6BB75B4BC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9BDE3FB4-CD79-46EB-BC07-6ED22BBAE9E9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:1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37CA-7144-4FFE-8889-62CB39E3CA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FA9F-D780-4DB9-976B-AC7EDB569EF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085CFC40-FBD2-477D-A52B-58D02D93968D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:1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242A-CA66-4A4C-928A-8E97E14046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4438-BE80-46F1-BBF0-DEDA60174A1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BA7C2A96-E7EB-4FC1-A8E3-13A556F47851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:1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3555-6653-411A-AFE6-0279FE6BE4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4319-C285-46F6-82F9-E410E3861A0E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630B7E86-F9C4-4E18-AA85-7762CDBED1A6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:1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A659-4F36-490F-A1EF-A1698998C15C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BF0E-76FC-457D-B1D7-FD5B3259462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E193C7D3-FC5B-49C9-A400-E95DC21B1BC0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:1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0BB9-821E-4C13-9837-028CA26A56F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42960" y="1557360"/>
            <a:ext cx="647712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sl-SI" sz="4500" spc="-1" strike="noStrike">
                <a:solidFill>
                  <a:srgbClr val="eeece1"/>
                </a:solidFill>
                <a:latin typeface="Tw Cen MT"/>
              </a:rPr>
              <a:t>Javno naročanje v Sloveniji in ukrepi za njegovo učinkovitost</a:t>
            </a:r>
            <a:r>
              <a:rPr b="0" lang="en-GB" sz="4500" spc="-1" strike="noStrike">
                <a:solidFill>
                  <a:srgbClr val="eeece1"/>
                </a:solidFill>
                <a:latin typeface="Tw Cen MT"/>
              </a:rPr>
              <a:t>  </a:t>
            </a:r>
            <a:endParaRPr b="0" lang="en-US" sz="45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3203280" y="6049440"/>
            <a:ext cx="5864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w Cen MT"/>
              </a:rPr>
              <a:t>Direktorat za javno naročanje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w Cen MT"/>
              </a:rPr>
              <a:t>Maja Koković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6443640" y="5300640"/>
            <a:ext cx="27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Otočec,  21. 5. 2014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2" name="Picture 3" descr=""/>
          <p:cNvPicPr/>
          <p:nvPr/>
        </p:nvPicPr>
        <p:blipFill>
          <a:blip r:embed="rId1"/>
          <a:stretch/>
        </p:blipFill>
        <p:spPr>
          <a:xfrm>
            <a:off x="0" y="6016680"/>
            <a:ext cx="30862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000000"/>
                </a:solidFill>
                <a:latin typeface="Tw Cen MT"/>
              </a:rPr>
              <a:t>Visoka raven transparentnosti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izke mejne vrednosti za objave (20.000 EUR za blago in storitve, 40.000 EUR za gradnje)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o javno odpiranje ponudb in možnost vpogleda v ponudb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objava “Prostovoljnega” obvestila za predhodno transparentnost v postopkih s pogajanji brez predhodne objav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napoved zadnjega kroga pogajanj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javljanje obvestil o izvajanju okvirnih sporazumo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eznanitev vseh udeleženih v postopku o predvidenem izboru ponudnika za večjo transparentnost o morebitnem  konfliktu intereso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eznanitev nadzornega organa naročnika o sklenitvi aneksa, zavrnitvi vseh ponudb, odstopu od izvedbe naročil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kmalu objava ključnih delov JN pogodbe na portalu javnih naročil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000000"/>
                </a:solidFill>
                <a:latin typeface="Tw Cen MT"/>
              </a:rPr>
              <a:t>Poenostavitve in fleksibilnost postopkov J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od mejnimi vrednostmi EU en postopek z objavo povpraševanja na portalu javnih naročil in možnostjo vključitve pogajanj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roki niso izrecno določeni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ajprej razvrstitev ponudb, nato preveritev najugodnejše, če to omogoča potek postopka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uporaba do 4 mesece starih dokazil iz prejšnjih postopkov javnega naročanj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dokazila iz uradnih evidenc mora pridobiti naročnik in jih ne sme zahtevati od ponudnika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onudniki lahko predložijo zgolj lastno izjavo, naročnik naknadno pozove k predložitvi dokazil le najugodnejšega ponud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dela na gradbišču lahko tečejo nemoteno kljub nezaključenim pogajanjem o dodatnih gradbenih delih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I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Od formalizmov k vsebini in odpiranju trga J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analiza trga kot podlaga za določitev ocenjene vrednosti JN in zagotovljenih sredstev (razvid izračuna ocenjene vrednosti,  obvezna opredelitev vrednosti in roka veljavnosti pogodbe)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dprava računskih napak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možnost odprave formalnih pomanjkljivosti in napak v ponudbi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max. delež dodatnih storitev ali gradenj 30 %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JN - instrument za doseganje ciljev okoljske, socialne in gospodarske politik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Integriteta, odgovornost in nadzor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oti-korupcijska klavzula in letno poročanje Komisiji za preprečevanje korupcije o premoženju sodelujočih v postopkih javnega naročanj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krški v primeru kršite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Uvedba e-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dosje ponudnika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za takojšnje preverjanje ponudb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istem bo povezan z uradnimi evidencami in omogočal deponiranje certifikatov, referenc in drugih dokazil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dražb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v primeru nesprejemljivih ponudb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oddaja ponudbe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ižji stroški postopka JN za ponudnika in naroč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interni postopek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aplikacija za upravljanje, vodenje in sledljivost postopkov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računi in e-plači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ravno varstvo pri 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kluzivni rok za zahtevke za revizijo zoper razpisno dokumentacijo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 morebitnih napakah v razpisni dokumentaciji mora potencialni ponudnik preko portala javnih naročil obvezno opozoriti naroč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kljub vloženem zahtevku za revizijo se postopek javnega naročanja lahko nadaljuje, naročnik pa ne sme skleniti pogodb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taksa za predrevizijski in revizijski postopek je relativno visoka, vendar upošteva načelo sorazmernosti (predmet naročanja, vrednost naročila, sklopi)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avno varstvo se lahko uveljavlja le zoper bistvene kršitve v postopku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dnostna obravnava zahtevkov za revizijo, ki se nanašajo na naročila, sofinancirana s sredstvi EU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izjemo kratki roki v predrevizijskem in revizijskem postopku ter avtomatično nadaljevanja pravnega varstva pred Državno revizijsko komisijo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284720" cy="380376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Za učinkovitejši sistem 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Zakonodaj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Oddaja javnih naročil v praks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Spremljanje stanja in nadzo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Povratna informacija in usposabljanj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936720" cy="10065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imagesCAQWGSER"/>
          <p:cNvPicPr/>
          <p:nvPr/>
        </p:nvPicPr>
        <p:blipFill>
          <a:blip r:embed="rId3"/>
          <a:stretch/>
        </p:blipFill>
        <p:spPr>
          <a:xfrm>
            <a:off x="1403280" y="4221000"/>
            <a:ext cx="2413080" cy="1598760"/>
          </a:xfrm>
          <a:prstGeom prst="rect">
            <a:avLst/>
          </a:prstGeom>
          <a:ln w="0">
            <a:noFill/>
          </a:ln>
        </p:spPr>
      </p:pic>
      <p:sp>
        <p:nvSpPr>
          <p:cNvPr id="508" name="PoljeZBesedilom 8"/>
          <p:cNvSpPr/>
          <p:nvPr/>
        </p:nvSpPr>
        <p:spPr>
          <a:xfrm>
            <a:off x="2340000" y="616572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Hvala za pozornost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8:55:39Z</dcterms:created>
  <dc:creator/>
  <dc:description/>
  <dc:language>en-US</dc:language>
  <cp:lastModifiedBy/>
  <dcterms:modified xsi:type="dcterms:W3CDTF">2014-05-20T10:26:12Z</dcterms:modified>
  <cp:revision>5</cp:revision>
  <dc:subject/>
  <dc:title>SPREMEMBE NA PODORČJU JAVNEGA NAROČANJA (ZJBN-2D, ZJVETPS-D, ZJNPOV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9990</vt:lpwstr>
  </property>
</Properties>
</file>